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21.jpeg" ContentType="image/jpeg"/>
  <Override PartName="/ppt/media/image20.png" ContentType="image/png"/>
  <Override PartName="/ppt/media/image19.jpeg" ContentType="image/jpeg"/>
  <Override PartName="/ppt/media/image17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3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D93A-4C05-44E1-869B-C2C9E3AD9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5C41-6439-4F56-BEE3-091BE67F6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177F-9F65-49C7-8D1B-46B5709BC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1439-F749-4787-88C4-F4D0FBE4B1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A79B-F2E0-4775-85FB-B6511738DE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B5D6-76E4-433D-920B-A98D10A80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912D-089F-4A75-A5A8-7D94914F9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11D4-BD16-4CDE-9BCE-B67DFD6FD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6005-5695-4916-8AC3-849EA7DBA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21EF-1E9E-4CFF-8360-E17C35677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317F-48C2-4012-94F2-9F56603C7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6FD7-F0CC-493D-BF8B-42C026DA5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5A5D-BB04-43C7-8268-6DFA561189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DF33-BE99-4A72-BFCA-F1158A3A86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07696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4876920"/>
            <a:ext cx="7619760" cy="1218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Kindergarten to Grade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14600" y="251460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de 20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4038480" y="0"/>
            <a:ext cx="419112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de 30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de 30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342900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de 40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505320" y="0"/>
            <a:ext cx="4572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de 40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4191120" y="0"/>
            <a:ext cx="464796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ore or less than one half?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rove it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e struck out 7 out of 17 b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8 of the 11 apples were ro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ill ate 5 out of 9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8 of the 15 seeds that were planted spro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733920" y="6396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dapted from Marilyn B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81680" y="838080"/>
            <a:ext cx="236232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To the Curriculum!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5105520" cy="6019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ick a grade K 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fractional concepts and understandings in a place/strand where it was previously not anticip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 different models link to the curriculu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The-Ontario-Curriculum-Grades-1-8-Mathematics"/>
          <p:cNvPicPr/>
          <p:nvPr/>
        </p:nvPicPr>
        <p:blipFill>
          <a:blip r:embed="rId1"/>
          <a:stretch/>
        </p:blipFill>
        <p:spPr>
          <a:xfrm>
            <a:off x="5648400" y="0"/>
            <a:ext cx="3495600" cy="523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19520" y="44956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onsolidation – Your Choic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9140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r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How can I use this knowledge to enrich students’ understanding and help them make conne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419720" y="9144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on this quo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 doesn’t matter whether the glass is half full or half empty.  There is room for more of the liquid trea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33920" y="4000680"/>
            <a:ext cx="1828800" cy="20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ain an understanding of the various representations for one h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gnize and analyze various representations of one half and some of the common miscon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ain an understanding of the complexity of working with set models in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ain an awareness of the existence of fractional concepts in other areas of the  mathematics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0084-F802-44F3-B213-AF45E0630D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25146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inds On! 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p Closing Diagnostic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representations of one half would students clearly underst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representations of one half would likely be confusing for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misunderstandings may ar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90360"/>
            <a:ext cx="5943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Action! </a:t>
            </a:r>
            <a:br>
              <a:rPr sz="4000"/>
            </a:b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Solve this problem in several way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01CA-A229-4271-8E76-714C6DEF10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E4E4-E10B-4AFE-970A-0F5818233A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8763120" cy="2730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t Student 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mathematical understanding do we see in th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we see any of the misconceptions Marian mentioned in th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some of the misconceptions that were not part of the plen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strategies could be used to help students better understand the concept of f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477120" y="5334120"/>
            <a:ext cx="266688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Scoring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4A21-39BA-4445-98EC-A6B835D607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4267080" y="0"/>
            <a:ext cx="4572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2209680" cy="443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de 10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5F28-411A-4D50-9C89-F81AA83D3B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3505320" y="762120"/>
            <a:ext cx="44193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de 10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352680" y="0"/>
            <a:ext cx="449604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de 20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4572000" cy="586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Peel District School Board</cp:lastModifiedBy>
  <dcterms:modified xsi:type="dcterms:W3CDTF">2012-07-16T12:19:54Z</dcterms:modified>
  <cp:revision>23</cp:revision>
  <dc:subject/>
  <dc:title>&lt;Title&gt;</dc:title>
</cp:coreProperties>
</file>